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B76F-6195-4608-8CAB-BC064901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CE4-9B0A-4E00-A210-D97755ED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C58-6813-4583-B49D-1511DEF2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3F45-CB78-47E7-BAF7-39C5E89E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E85-E3FD-4E2D-BE96-D9C168FD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C879-6BED-4B49-8951-35CD4DD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42D8-303A-453F-97C5-3B2179A1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7E1-ADD4-4351-8524-7D80F2D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16CB-083E-4DF1-AC3E-E08C474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8F0-59BA-4B60-9C5F-47B1F1D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394-7FE8-4F41-884B-B568348D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599-9627-4168-8DF2-966E7ECD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27E6-8C56-45C5-A80B-BA84BB1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CE46-2D8A-4EBD-A112-CC2B47D5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5E30-7AB1-4665-B787-2121F3B9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3693-0E93-4716-881A-EAFFDF168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FC94-7A5F-41CA-83A7-8EFBC32D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8A593-F8B3-4895-8ED2-CDBBFFCC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2CE23-5F37-49A2-BF2E-032CEEFB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8B65D-6195-4374-BDB4-1D5DFE9E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BAC6C-66C5-4D3C-AAAA-2C8869ED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B264EF-31D0-4A00-AA30-C163C64E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C75-ED9E-45A6-BCFF-B8735B53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A9481-A4B8-48BE-818D-DF06A4BE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9BB2B-B253-49F6-B3A2-C73C6041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162270-9756-4F0F-A572-FED46963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4B5610-9C1B-41A1-B278-56BA322A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3A767-6FDA-44B8-88E2-20EE48A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348D02-C6E1-464D-8329-30B785F3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A08A-6F62-46D3-897E-6015CE5C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ACAC-5377-45D0-BC28-D96B0D305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0ECD5-6C54-4E97-8D5E-311D034B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538DF-DA22-4358-A849-23897047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0DB6-AA73-4B30-A116-58CF18CE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6F9D-9245-4C68-9843-E69788A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306EE-22B0-4F46-9DDA-75B7EC35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0ACF6-6C66-41A5-AE76-A8636DEC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1F893-FAEB-4A98-B19B-B4B34723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3C83-AC6B-4A61-8016-7BDCAC9E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8FBDA-0E7A-49A5-9E5F-7C3B8134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7556-89FC-4338-BEE8-3D26409A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A727-3C2F-4DBF-9975-7C63541C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A4907-9AB7-45D0-8769-077BB26F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2BD78-D1C7-4464-B0EC-09A4593D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186-9E2D-4197-9115-40958F4E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027605-2C18-4F2B-A409-546B6CCC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BC1D6-73C9-4EE2-8C90-A6C9B79E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E541E-F9E6-41E0-8426-4400C5BB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1C5260-5B35-4376-B3A8-4F5BDE6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577D5-465E-4095-A56A-A765E24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E4988-6FB9-479E-A37C-98A86C69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105AC-91EA-4245-A803-899DE726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7B095-291E-444E-9FCF-C88BFF10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843F9-6318-40B6-93A6-063EBAA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BA53A-486C-480F-B9B3-6DC80727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8E34-CA92-42D3-A4BB-6B8D4534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507586-9AD4-41BB-8062-283B95DD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C7A55-3B6E-4087-A57C-B2B59C9A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A54092-EF79-405E-9525-FDACC04D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65B1CA-5B0D-439A-8A0F-97795A35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3FA1EE-CB00-4CE5-A147-5F8FBC69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1CE72-65EA-4848-B7AD-93F8FB8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D58A1E-D813-4EAB-B77A-C87A8101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C85C8-B428-4A43-AE98-E6193DCE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9EC001-7A84-4454-BCB4-7BF097DD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DF68BC-C35E-474A-A013-369EE13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E2EA-6000-430A-97D2-02FE81E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45BB13-8B2F-4EE0-A9AE-F63AD4C9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F0A202-5545-45CE-AD8E-E2414FA5B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23D544-638E-4E9D-BD79-CF70C933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830F0-4B12-456D-A7CA-AD6798EC0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50F6F2-AA96-439D-BB4B-6B3774D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E5F128-C321-42E1-9509-2628D28B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3E3ECA-4F6E-4211-93FB-6B18B80E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1BDF47-9AFC-4811-A033-4F8A2E79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2591F-19F0-45FF-9E08-C132A2B9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C94A0-0D26-403A-8131-6AA74445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FC6-60D1-4E2B-AC57-6E3D3BE8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A1162F-030D-47CC-95F9-BA22784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999919-B8AB-4C3F-8FA2-0345965E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E444E1-E14E-4353-BE08-D729C757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DFA48-1DE5-4ACE-8EC9-2D565E4EF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35454-78E3-4B5E-B427-E3BB9402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E45F-1821-47ED-ADF3-4F5A72BF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98A3-866D-496F-A937-DFF96A75CD0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F780-12A7-4E5C-A2E6-D58D12F78B4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3C8-F16A-4644-9103-E1EB1A2BD1C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2935-6098-4F9E-8E10-FE67A0D3475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A26-8919-4417-9C57-212B9714C71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E9F0-C306-471A-A4E6-AB9B9CC1168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9D05-F306-4CF1-8253-4282B89C30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eacher-of-russia.ru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МАСТЕР-КЛАС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ахомова Елена Михайловна, заведующая кабинетом педагогического опыта АПК иППРО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3078000" y="3208320"/>
            <a:ext cx="2225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Содержательный аспе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ущность предлагаемой проблем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идея реализации проблем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актуальность и нау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методическому и научному обобщ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2. Деятельностный аспек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приемы мотивации участников мастер-клас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распространению педагогического опы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технологи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оптимальность используемых средств решения пробл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0a80a"/>
                </a:solidFill>
                <a:latin typeface="Century Schoolbook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3. Личностные качеств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пособность к импровиза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тепень воздействия на аудиторию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эрудиц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стиль общ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артистичност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0a80a"/>
                </a:solidFill>
                <a:latin typeface="Century Schoolbook"/>
              </a:rPr>
              <a:t>- общая культур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5f6d"/>
                </a:solidFill>
                <a:latin typeface="Century Schoolbook"/>
              </a:rPr>
              <a:t>ПОЛЕЗНЫЕ АДРЕСА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teacher-of-russia.ru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69eab"/>
                </a:solidFill>
                <a:uFillTx/>
                <a:latin typeface="Century Schoolbook"/>
              </a:rPr>
              <a:t>http://apkpro.com/ikio/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d0a80a"/>
                </a:solidFill>
                <a:latin typeface="Century Schoolbook"/>
              </a:rPr>
              <a:t>МАСТЕР-КЛАСС: ЧТО? ДЛЯ ЧЕГО? КАК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215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5f6d"/>
                </a:solidFill>
                <a:latin typeface="Century Schoolbook"/>
              </a:rPr>
              <a:t>ЧТО ТАКОЕ МАСТЕР-КЛАСС?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Century Schoolbook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5f6d"/>
                </a:solidFill>
                <a:latin typeface="Century Schoolbook"/>
              </a:rPr>
              <a:t>ИДЕЯ МАСТЕР-КЛАССА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заимообучен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Взаимосовершенствован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Я ЗНАЮ, КАК ЭТО ДЕЛАТЬ. Я НАУЧУ ВА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60" name="Содержимое 2"/>
          <p:cNvGrpSpPr/>
          <p:nvPr/>
        </p:nvGrpSpPr>
        <p:grpSpPr>
          <a:xfrm>
            <a:off x="298440" y="1511280"/>
            <a:ext cx="7791480" cy="5054760"/>
            <a:chOff x="298440" y="1511280"/>
            <a:chExt cx="7791480" cy="5054760"/>
          </a:xfrm>
        </p:grpSpPr>
        <p:pic>
          <p:nvPicPr>
            <p:cNvPr id="36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298440" y="1511280"/>
              <a:ext cx="7791480" cy="505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457200" y="1600200"/>
              <a:ext cx="7467480" cy="48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Мастер-класс — это двусторонний процесс: «преподаватель — слушатель»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Мастер: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 показывает, включает в работу, просит повторить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 marL="272880" indent="-2728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entury Schoolbook"/>
                </a:rPr>
                <a:t>Слушатель-участник МК</a:t>
              </a:r>
              <a:r>
                <a:rPr b="0" lang="ru-RU" sz="2400" spc="-1" strike="noStrike">
                  <a:solidFill>
                    <a:srgbClr val="000000"/>
                  </a:solidFill>
                  <a:latin typeface="Century Schoolbook"/>
                </a:rPr>
                <a:t>: выполняет предложенное, повторяет, предлагает свой способ  </a:t>
              </a:r>
              <a:endParaRPr b="0" lang="en-US" sz="2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1173240" y="17733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575f6d"/>
                </a:solidFill>
                <a:latin typeface="Century Schoolbook"/>
              </a:rPr>
              <a:t>МАСТЕР-КЛАСС – ЭТО…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Мастер-класс</a:t>
            </a:r>
            <a:r>
              <a:rPr b="0" lang="ru-RU" sz="3000" spc="-1" strike="noStrike">
                <a:solidFill>
                  <a:srgbClr val="000000"/>
                </a:solidFill>
                <a:latin typeface="Century Schoolbook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РЕКОМЕНДАЦИИ ПО ПОДГОТОВКЕ МАСТЕР-КЛАСС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1.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3. Придумайте проблему, вопрос, парадокс, вводящие в вашу тему занятия и представляющие интерес для «учащихся»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РЕКОМЕНДАЦИИ ПО ПОДГОТОВКЕ МАСТЕР-КЛАСС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6. Включите фантазию, придумайте интересный замысел мастер-класс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7. Составьте подробный план занятия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8. Тщательно проверьте технику и работу микрофонов перед началом мастер-класса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9. Расставьте стулья, столы и доску так, как вам нужно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Schoolbook"/>
              </a:rPr>
              <a:t>10. Когда все готово — дайте команду организаторам, что можно начинать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5:30Z</dcterms:created>
  <dc:creator>Пахомова</dc:creator>
  <dc:description/>
  <dc:language>en-US</dc:language>
  <cp:lastModifiedBy>Пахомова</cp:lastModifiedBy>
  <dcterms:modified xsi:type="dcterms:W3CDTF">2010-09-20T20:32:24Z</dcterms:modified>
  <cp:revision>8</cp:revision>
  <dc:subject/>
  <dc:title>Слайд 1</dc:title>
</cp:coreProperties>
</file>